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AB1E-9C33-4A4C-BEF5-F3DE74DD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7163-9B0D-48D7-BD67-31FBE13DC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9FDF-44D2-4B30-BF67-F2151621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9B3-1ABF-4FF3-BC85-B3D562C3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8609-C4AF-4320-8AF6-51CFE0BD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BA18-C98F-42DF-A5FD-264A2295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976B-3EE5-42A7-AEFB-F121C654B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st of presentation explane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57D3-6B6C-4F54-9B1F-C6367DD6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B70B-86CB-45BE-8658-AA2B9429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AE33-EFAC-48E8-B678-5FF8B4D7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6596-2C8E-4DB4-B4C4-CAC53415E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A3E9-A8B2-44AE-92EF-880694E2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hoose to offer user to save his/hers choice , and to allow user to reset previous saved consent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C6FA-1452-4616-95A3-C3669372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8576-7C0D-4B82-A6F7-C2C4623A9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9C57B-B42C-49FC-883E-1299F9020E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90E39A-3992-4665-B35A-CCCB9ED552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CAD0C-1DD9-4C82-9ABC-740A6E29E2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68F328-7405-4D31-AFB4-5920B16A4AB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52136E-2B02-416A-B63F-99932E632FB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D2D07-7212-4C24-9473-CE18EA0EDDF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7A09A-8CD4-4723-A6B9-4D7F3CE6C2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EE9298-04F9-45AF-B4D2-BD42454FD2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BB7283-E17C-4FE4-9D70-CA5DD146B0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8C969-11FC-4429-84CA-C29D6408D7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6A2E-E4C0-407F-A033-40DE2AF82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D67C-3631-4E01-93DB-9E680908A1A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E791-275D-4393-8BE1-F5784CA0031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8B26-EC2A-413A-8BA2-0F32B3CD4F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B46E-1871-4AF3-A63E-DBC1AE31AA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7A800-2ADD-473D-B1A9-142CDB2B2A6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AF1C5-BD90-4131-B5F7-7A277C98280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BB05C-5CC4-4CF6-A6D4-A765A473B0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E85C-9516-46D3-808B-5B4717049A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ADB8-7465-4931-A7ED-FCB7582201D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62871-CAFD-42F2-97F3-5675DCEA15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B5960-FC8D-4601-AE95-2F2A7E948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BF51-77CC-40F3-8F5A-70641AC0FA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5F167-469E-4751-85BC-A7D450D758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50610-E981-4738-8DB9-2719A8CBDD5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F5C68-87DE-444C-892C-4897308A479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19066-CA90-405A-9E3E-FEC3462561C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20A96-8105-42B5-AFE2-04536FAA985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80F2D-0A91-4DC7-8193-065CD49AFD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D0BE9-A249-4E2D-AD6F-17D6B79161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D656E-6B74-4544-AA24-E86BF4459F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6A176-3E38-4363-9376-46132C085F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456DA-9B1C-41DC-87D3-77C41EC97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3FE85-3159-4B95-80DF-B85BD7B45BF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14548-EF41-4891-9C31-69FD3358EB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3697F-ED99-4D83-B819-FBCB4B55F13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52685-73A3-4D8A-A313-AC089ED34FB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02B66C-1AAF-481A-B26A-577B4673B1C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B9246B-63D0-4044-B4AE-A473AE4C41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6469C3-2886-47EA-BB50-413533AED8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164779-215C-417C-A02D-61E98E58074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42FBC-51B8-4753-BA74-64CFF2FBC2A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9E0BB7-673D-4597-9A3C-B2696FC162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A813AD-AD28-4287-AD17-82D2C262440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8322EF-0E58-4FEC-B9C7-DC4EA1B219E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1F83DB-6FA1-44F6-B2E1-077959E341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03383D-AC85-4F18-A33D-6C2F4AC72B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554F15-6475-43C3-872D-38AC0AB7C1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1116-92BC-470A-AEE9-CEC148C7BAF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1EA75-828A-4857-94EA-C2E2A0BEE5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15AB6-C922-479A-B933-FB315297477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D95B4-D545-48F0-BEAB-47CABDC0AD5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F9A97-DEFC-4431-88E3-637B6812C7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2A0E5-438A-4D4D-8FEF-D0DBE33AFB7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24C6-B890-4706-99D7-CA904C7F388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40346-7549-407F-8659-4548693CF0E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91065-6872-4952-B8D1-B81AF04C5EF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7CB5A-4823-4768-B1F6-876F64BA826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0C8C-712E-4031-AEDF-DF3283AA4F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EFBFA-960C-444F-AE7A-4D21E4C3CE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ADE5-16E2-4A87-927E-C863E8B06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3C0B4-AD7B-4F5F-A2E2-74A794306A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4CB5C-95AA-4F85-95C4-BE24AF9ED9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23D97-26A4-40FC-9E75-89A91546B6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89A02-DFDF-41A5-AE04-693D22EE01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30589-3C5F-407B-AD19-580D08ED40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EAE1-E8D8-4E15-A39B-6B283A1C87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D1374-17CD-4BD2-AE96-006A12B07C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E5B12-F4A1-42B4-A73E-594D32B74C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0B3F-D0D1-4D00-B880-E8DBD422D7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624AE-B542-4A60-A741-DA8CBF3FC0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0DCB-C07E-40D5-BFBD-FAE1A5847B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BEC4-D587-4176-A043-F85AFB2492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E0FA4-55F7-4236-AED1-3F8D4A4C82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F09B-DB23-46CF-91CB-44196BC12E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4F3B-BBE5-4CC5-A263-44A7CC5A0D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65AB-A089-4B1B-95D3-BA5EFA01E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4A7C-F963-488D-BFC9-D352908DA8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993-ECEC-4F5D-A27B-6FD596A824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5AA8-C0D1-4720-8E16-97CB50AA29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840A-F553-4A2E-80E6-6F97EE086D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93DD-7528-47BB-87C1-670F2F568F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428C-63BA-485B-A606-9E2C238275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BBB2-A818-4E52-8EF8-87E7948694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C9AA-A525-4EC0-8401-2BC173D6E3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7D78-8896-49EC-934A-29715D0222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2A32-0639-422B-96B4-BE7180249D8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31400-71D4-4E42-99A8-6E27F6F55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AC20-70A8-4686-8486-24D53D26FD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89BC6-5824-4171-B60F-7FB35C9A9F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02FC9-8819-4A87-9D94-D843EFF0BD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A138A-DA5D-447E-BEFB-3118FE3246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4C0FA-928A-49BE-A4C2-0CDEF4E5D6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7EAC3-36E1-47A6-946B-E6C205CD54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20C9D-B1CC-45E6-AE5D-9EFA78FA3A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73108-33D0-4BD7-A3A8-DF59C7483A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0CD1D-6A92-40FF-B770-DB873A10BDB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BD46A-45DA-4C56-A93B-800B44E8F4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F9626-0544-4F33-A24F-5A2B6E227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CADE-4531-45F6-909E-CDAEC11E65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BC33B-7928-4D89-BB42-E559D35DF4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AD3BE-FC58-45B5-ABAC-AF1B6E4C44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60571-F9E9-4BAA-B07F-5E5025ED79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31F10-BAA8-4794-A06B-508D0A71239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DCA86B-F6CD-463E-B701-1506FA7B762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5CD1A-F14A-4CA4-9CE6-846DDCF5FD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82579-A778-485B-A52B-03E11DC88B5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7AF5A-ADAB-4011-AFD6-86FBF3E9CF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A6A96-4BE5-4B01-BA0C-3D027F45C94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9ECBE-F2CD-44EC-AD66-430292318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05AE-9929-4EC4-83F7-E94E70D4BD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5A09E-33EE-4E3C-BCD0-C223C75C71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FAD55-24F2-42E0-80CD-89934CF991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0B924-B7AF-4602-BA7D-AC88A0554B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96FA-A4BB-4FA6-803A-7803F919C4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0DCC1-124B-43F6-B65C-51B170E95B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4419-E18E-4D6D-9F2E-38BE2B2FF1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120E-5712-4703-A91C-0D0905DF5F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738F-6FF5-4F71-8FE4-BB2F55C603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AC24C-979D-4A1D-B401-FD581B41AE9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0381-26E0-4A37-904F-DE55EFFD6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4356-85EB-4476-B272-77A2E494EB8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E54A-37B6-4D08-97AD-CBD131268FA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16C3-A6A3-43E4-B2A0-D141D590FFF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D8F7-1737-479B-B318-8724C2F283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E30D-3465-44DD-B5B8-BBDF378E859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6B25-AB79-4231-94C6-2247D7E9DC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4E45D-CA05-40DC-AB0A-6760572164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D1258-C56D-427B-B0EF-A2A8E7834F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A2098-E2B7-41D0-A5C3-1CD14EA1D3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72CD1-9125-4D2F-AC53-86EF3BD1E8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3CF44-8A90-4F3E-9E3B-B08B43928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FBCC-266D-49FD-A817-78F4C690268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663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B496C-786E-4C3F-925A-81EA628B5EA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1BDA0-5EE4-474F-B29F-4E0D2A0834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6A175-7100-4FE4-A968-DFDB47B620C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5C0E5-B7CD-469C-92D5-D1F8F06531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066320" y="3849120"/>
            <a:ext cx="762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66AAD-C21B-40A2-B5DA-C1B020831D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71240" y="114264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6632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971240" y="3849120"/>
            <a:ext cx="3718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4B41B-1ECD-4A3F-B339-9F8A1798E4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4284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19360" y="114264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06632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64284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219360" y="3849120"/>
            <a:ext cx="2453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D2632-0C3B-4ABC-9144-8C463E9AF6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985A0-2B9F-4AA1-BD7F-0B904B6916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B0F7B-BFB3-4924-8B5A-1CA323DB12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04B3C-FF13-4EC7-AAE2-92A3623B1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F163-C41F-46D6-A453-81AD883008A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A463-EB3C-4611-8A01-55585E3780E7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EF2D-D493-4DDF-B249-48A98B64CEB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2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137-1E38-47CF-867C-29B4145C19A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2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1D4D-1CDA-4E17-89D4-837DB21C785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4648320" y="1600200"/>
          <a:ext cx="4267080" cy="28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26708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0BCB-44EA-4C72-9C48-9FCE50B7F62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550A-97BC-420F-A90D-9F3F142C5437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7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8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09B-7533-40A2-8486-BCCF91CF509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Rectangle 9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9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0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3CF-D520-44F9-A54A-62B0B276AD3B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CB3-A685-476E-AE9C-ABC8753FF86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3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4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B3E-C85A-440B-84FF-E68445BE728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8"/>
          <p:cNvGraphicFramePr/>
          <p:nvPr/>
        </p:nvGraphicFramePr>
        <p:xfrm>
          <a:off x="0" y="6665760"/>
          <a:ext cx="914724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665760"/>
                    <a:ext cx="914724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7"/>
          <p:cNvSpPr/>
          <p:nvPr/>
        </p:nvSpPr>
        <p:spPr>
          <a:xfrm>
            <a:off x="1066680" y="990720"/>
            <a:ext cx="7848720" cy="46080"/>
          </a:xfrm>
          <a:prstGeom prst="rect">
            <a:avLst/>
          </a:prstGeom>
          <a:solidFill>
            <a:srgbClr val="ec8b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9"/>
          <p:cNvGraphicFramePr/>
          <p:nvPr/>
        </p:nvGraphicFramePr>
        <p:xfrm>
          <a:off x="152280" y="304920"/>
          <a:ext cx="66384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04920"/>
                    <a:ext cx="66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5"/>
          </p:nvPr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68b2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6"/>
          </p:nvPr>
        </p:nvSpPr>
        <p:spPr>
          <a:xfrm>
            <a:off x="700992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FDF9-93C2-451D-B738-BE1B694317F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4114800" cy="226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AI with simpleSAMLphp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761760" y="536220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Marina Vermezovi</a:t>
            </a:r>
            <a:r>
              <a:rPr b="0" lang="sr-Latn-CS" sz="2400" spc="-1" strike="noStrike">
                <a:solidFill>
                  <a:srgbClr val="808080"/>
                </a:solidFill>
                <a:latin typeface="Trebuchet MS"/>
              </a:rPr>
              <a:t>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Academic Network of Serbia -AM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rebuchet MS"/>
              </a:rPr>
              <a:t>EIFL, 15.12.2011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86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Straight Arrow Connector 82"/>
          <p:cNvCxnSpPr>
            <a:endCxn id="692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93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02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09" name="Picture 140" descr=""/>
            <p:cNvPicPr/>
            <p:nvPr/>
          </p:nvPicPr>
          <p:blipFill>
            <a:blip r:embed="rId4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11" name="Straight Arrow Connector 124"/>
          <p:cNvCxnSpPr>
            <a:endCxn id="702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12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13" name="Picture 136" descr=""/>
            <p:cNvPicPr/>
            <p:nvPr/>
          </p:nvPicPr>
          <p:blipFill>
            <a:blip r:embed="rId5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2ECD-B43C-4C69-A227-CC5F165CC4E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22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26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Straight Arrow Connector 82"/>
          <p:cNvCxnSpPr>
            <a:endCxn id="728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29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ound Same Side Corner Rectangle 90"/>
          <p:cNvSpPr/>
          <p:nvPr/>
        </p:nvSpPr>
        <p:spPr>
          <a:xfrm rot="16200000">
            <a:off x="4577400" y="239112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ound Same Side Corner Rectangle 91"/>
          <p:cNvSpPr/>
          <p:nvPr/>
        </p:nvSpPr>
        <p:spPr>
          <a:xfrm rot="16200000">
            <a:off x="3944520" y="224892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2" descr="Database Icon 48px png"/>
          <p:cNvPicPr/>
          <p:nvPr/>
        </p:nvPicPr>
        <p:blipFill>
          <a:blip r:embed="rId3"/>
          <a:stretch/>
        </p:blipFill>
        <p:spPr>
          <a:xfrm>
            <a:off x="4214880" y="2443320"/>
            <a:ext cx="298440" cy="398160"/>
          </a:xfrm>
          <a:prstGeom prst="rect">
            <a:avLst/>
          </a:prstGeom>
          <a:ln w="0">
            <a:noFill/>
          </a:ln>
        </p:spPr>
      </p:pic>
      <p:sp>
        <p:nvSpPr>
          <p:cNvPr id="738" name="TextBox 68"/>
          <p:cNvSpPr/>
          <p:nvPr/>
        </p:nvSpPr>
        <p:spPr>
          <a:xfrm>
            <a:off x="3701880" y="246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9"/>
          <p:cNvSpPr/>
          <p:nvPr/>
        </p:nvSpPr>
        <p:spPr>
          <a:xfrm>
            <a:off x="4471920" y="24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und Same Side Corner Rectangle 96"/>
          <p:cNvSpPr/>
          <p:nvPr/>
        </p:nvSpPr>
        <p:spPr>
          <a:xfrm rot="16200000">
            <a:off x="4577400" y="2900880"/>
            <a:ext cx="380880" cy="49068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ound Same Side Corner Rectangle 97"/>
          <p:cNvSpPr/>
          <p:nvPr/>
        </p:nvSpPr>
        <p:spPr>
          <a:xfrm rot="16200000">
            <a:off x="3944880" y="275904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98" descr="Database Icon 48px png"/>
          <p:cNvPicPr/>
          <p:nvPr/>
        </p:nvPicPr>
        <p:blipFill>
          <a:blip r:embed="rId4"/>
          <a:stretch/>
        </p:blipFill>
        <p:spPr>
          <a:xfrm>
            <a:off x="4214880" y="295272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44" name="TextBox 74"/>
          <p:cNvSpPr/>
          <p:nvPr/>
        </p:nvSpPr>
        <p:spPr>
          <a:xfrm>
            <a:off x="3701880" y="2973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75"/>
          <p:cNvSpPr/>
          <p:nvPr/>
        </p:nvSpPr>
        <p:spPr>
          <a:xfrm>
            <a:off x="4471920" y="2976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ound Same Side Corner Rectangle 102"/>
          <p:cNvSpPr/>
          <p:nvPr/>
        </p:nvSpPr>
        <p:spPr>
          <a:xfrm rot="16200000">
            <a:off x="4572720" y="340560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ound Same Side Corner Rectangle 103"/>
          <p:cNvSpPr/>
          <p:nvPr/>
        </p:nvSpPr>
        <p:spPr>
          <a:xfrm rot="16200000">
            <a:off x="3949560" y="326340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4" descr="Database Icon 48px png"/>
          <p:cNvPicPr/>
          <p:nvPr/>
        </p:nvPicPr>
        <p:blipFill>
          <a:blip r:embed="rId5"/>
          <a:stretch/>
        </p:blipFill>
        <p:spPr>
          <a:xfrm>
            <a:off x="4219560" y="345744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0" name="TextBox 82"/>
          <p:cNvSpPr/>
          <p:nvPr/>
        </p:nvSpPr>
        <p:spPr>
          <a:xfrm>
            <a:off x="3706920" y="34783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83"/>
          <p:cNvSpPr/>
          <p:nvPr/>
        </p:nvSpPr>
        <p:spPr>
          <a:xfrm>
            <a:off x="4467240" y="3481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ound Same Side Corner Rectangle 108"/>
          <p:cNvSpPr/>
          <p:nvPr/>
        </p:nvSpPr>
        <p:spPr>
          <a:xfrm rot="16200000">
            <a:off x="4572720" y="4847040"/>
            <a:ext cx="381240" cy="49068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680"/>
              <a:gd name="textAreaBottom" fmla="*/ 491040 h 49068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ound Same Side Corner Rectangle 109"/>
          <p:cNvSpPr/>
          <p:nvPr/>
        </p:nvSpPr>
        <p:spPr>
          <a:xfrm rot="16200000">
            <a:off x="3949560" y="4704840"/>
            <a:ext cx="381240" cy="774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10" descr="Database Icon 48px png"/>
          <p:cNvPicPr/>
          <p:nvPr/>
        </p:nvPicPr>
        <p:blipFill>
          <a:blip r:embed="rId6"/>
          <a:stretch/>
        </p:blipFill>
        <p:spPr>
          <a:xfrm>
            <a:off x="4219560" y="48988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56" name="TextBox 88"/>
          <p:cNvSpPr/>
          <p:nvPr/>
        </p:nvSpPr>
        <p:spPr>
          <a:xfrm>
            <a:off x="3706920" y="491976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9"/>
          <p:cNvSpPr/>
          <p:nvPr/>
        </p:nvSpPr>
        <p:spPr>
          <a:xfrm>
            <a:off x="4467240" y="492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 Same Side Corner Rectangle 114"/>
          <p:cNvSpPr/>
          <p:nvPr/>
        </p:nvSpPr>
        <p:spPr>
          <a:xfrm rot="16200000">
            <a:off x="4567680" y="5374080"/>
            <a:ext cx="381240" cy="490320"/>
          </a:xfrm>
          <a:custGeom>
            <a:avLst/>
            <a:gdLst>
              <a:gd name="textAreaLeft" fmla="*/ 360 w 381240"/>
              <a:gd name="textAreaRight" fmla="*/ 380880 w 38124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7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7"/>
                </a:lnTo>
                <a:lnTo>
                  <a:pt x="0" y="490537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 Same Side Corner Rectangle 115"/>
          <p:cNvSpPr/>
          <p:nvPr/>
        </p:nvSpPr>
        <p:spPr>
          <a:xfrm rot="16200000">
            <a:off x="3935520" y="523080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116" descr="Database Icon 48px png"/>
          <p:cNvPicPr/>
          <p:nvPr/>
        </p:nvPicPr>
        <p:blipFill>
          <a:blip r:embed="rId7"/>
          <a:stretch/>
        </p:blipFill>
        <p:spPr>
          <a:xfrm>
            <a:off x="4205160" y="542448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762" name="TextBox 94"/>
          <p:cNvSpPr/>
          <p:nvPr/>
        </p:nvSpPr>
        <p:spPr>
          <a:xfrm>
            <a:off x="3692520" y="544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95"/>
          <p:cNvSpPr/>
          <p:nvPr/>
        </p:nvSpPr>
        <p:spPr>
          <a:xfrm>
            <a:off x="4462560" y="54482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Straight Arrow Connector 119"/>
          <p:cNvCxnSpPr>
            <a:endCxn id="744" idx="1"/>
          </p:cNvCxnSpPr>
          <p:nvPr/>
        </p:nvCxnSpPr>
        <p:spPr>
          <a:xfrm>
            <a:off x="2331720" y="2313000"/>
            <a:ext cx="1370520" cy="82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5" name="Straight Arrow Connector 120"/>
          <p:cNvCxnSpPr>
            <a:endCxn id="750" idx="1"/>
          </p:cNvCxnSpPr>
          <p:nvPr/>
        </p:nvCxnSpPr>
        <p:spPr>
          <a:xfrm>
            <a:off x="2331720" y="2352600"/>
            <a:ext cx="1375560" cy="12945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6" name="Straight Arrow Connector 121"/>
          <p:cNvCxnSpPr>
            <a:endCxn id="762" idx="1"/>
          </p:cNvCxnSpPr>
          <p:nvPr/>
        </p:nvCxnSpPr>
        <p:spPr>
          <a:xfrm>
            <a:off x="2300040" y="2398680"/>
            <a:ext cx="1392840" cy="3215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67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768" name="Picture 140" descr=""/>
            <p:cNvPicPr/>
            <p:nvPr/>
          </p:nvPicPr>
          <p:blipFill>
            <a:blip r:embed="rId8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23"/>
          <p:cNvGrpSpPr/>
          <p:nvPr/>
        </p:nvGrpSpPr>
        <p:grpSpPr>
          <a:xfrm>
            <a:off x="3157560" y="2693880"/>
            <a:ext cx="447480" cy="457200"/>
            <a:chOff x="3157560" y="2693880"/>
            <a:chExt cx="447480" cy="457200"/>
          </a:xfrm>
        </p:grpSpPr>
        <p:pic>
          <p:nvPicPr>
            <p:cNvPr id="771" name="Picture 138" descr=""/>
            <p:cNvPicPr/>
            <p:nvPr/>
          </p:nvPicPr>
          <p:blipFill>
            <a:blip r:embed="rId9"/>
            <a:stretch/>
          </p:blipFill>
          <p:spPr>
            <a:xfrm>
              <a:off x="3157560" y="269388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Oval 139"/>
            <p:cNvSpPr/>
            <p:nvPr/>
          </p:nvSpPr>
          <p:spPr>
            <a:xfrm>
              <a:off x="3182760" y="27144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3" name="Straight Arrow Connector 124"/>
          <p:cNvCxnSpPr>
            <a:endCxn id="738" idx="1"/>
          </p:cNvCxnSpPr>
          <p:nvPr/>
        </p:nvCxnSpPr>
        <p:spPr>
          <a:xfrm>
            <a:off x="2331720" y="2293560"/>
            <a:ext cx="1370520" cy="338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74" name="Group 125"/>
          <p:cNvGrpSpPr/>
          <p:nvPr/>
        </p:nvGrpSpPr>
        <p:grpSpPr>
          <a:xfrm>
            <a:off x="3044880" y="2247840"/>
            <a:ext cx="447480" cy="466920"/>
            <a:chOff x="3044880" y="2247840"/>
            <a:chExt cx="447480" cy="466920"/>
          </a:xfrm>
        </p:grpSpPr>
        <p:pic>
          <p:nvPicPr>
            <p:cNvPr id="775" name="Picture 136" descr=""/>
            <p:cNvPicPr/>
            <p:nvPr/>
          </p:nvPicPr>
          <p:blipFill>
            <a:blip r:embed="rId10"/>
            <a:stretch/>
          </p:blipFill>
          <p:spPr>
            <a:xfrm>
              <a:off x="3044880" y="2247840"/>
              <a:ext cx="4474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Oval 137"/>
            <p:cNvSpPr/>
            <p:nvPr/>
          </p:nvSpPr>
          <p:spPr>
            <a:xfrm>
              <a:off x="3062160" y="2284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126"/>
          <p:cNvGrpSpPr/>
          <p:nvPr/>
        </p:nvGrpSpPr>
        <p:grpSpPr>
          <a:xfrm>
            <a:off x="2519280" y="3517920"/>
            <a:ext cx="393840" cy="393840"/>
            <a:chOff x="2519280" y="3517920"/>
            <a:chExt cx="393840" cy="393840"/>
          </a:xfrm>
        </p:grpSpPr>
        <p:pic>
          <p:nvPicPr>
            <p:cNvPr id="778" name="Picture 134" descr=""/>
            <p:cNvPicPr/>
            <p:nvPr/>
          </p:nvPicPr>
          <p:blipFill>
            <a:blip r:embed="rId11"/>
            <a:stretch/>
          </p:blipFill>
          <p:spPr>
            <a:xfrm>
              <a:off x="2531880" y="353052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Oval 135"/>
            <p:cNvSpPr/>
            <p:nvPr/>
          </p:nvSpPr>
          <p:spPr>
            <a:xfrm>
              <a:off x="2519280" y="35179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0" name="Straight Arrow Connector 127"/>
          <p:cNvCxnSpPr>
            <a:endCxn id="756" idx="1"/>
          </p:cNvCxnSpPr>
          <p:nvPr/>
        </p:nvCxnSpPr>
        <p:spPr>
          <a:xfrm>
            <a:off x="2322360" y="2352600"/>
            <a:ext cx="1385280" cy="2736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781" name="Group 128"/>
          <p:cNvGrpSpPr/>
          <p:nvPr/>
        </p:nvGrpSpPr>
        <p:grpSpPr>
          <a:xfrm>
            <a:off x="2994120" y="3565440"/>
            <a:ext cx="393480" cy="393840"/>
            <a:chOff x="2994120" y="3565440"/>
            <a:chExt cx="393480" cy="393840"/>
          </a:xfrm>
        </p:grpSpPr>
        <p:pic>
          <p:nvPicPr>
            <p:cNvPr id="782" name="Picture 132" descr=""/>
            <p:cNvPicPr/>
            <p:nvPr/>
          </p:nvPicPr>
          <p:blipFill>
            <a:blip r:embed="rId12"/>
            <a:stretch/>
          </p:blipFill>
          <p:spPr>
            <a:xfrm>
              <a:off x="3003480" y="3576600"/>
              <a:ext cx="3776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Oval 133"/>
            <p:cNvSpPr/>
            <p:nvPr/>
          </p:nvSpPr>
          <p:spPr>
            <a:xfrm>
              <a:off x="2994120" y="3565440"/>
              <a:ext cx="39348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29"/>
          <p:cNvGrpSpPr/>
          <p:nvPr/>
        </p:nvGrpSpPr>
        <p:grpSpPr>
          <a:xfrm>
            <a:off x="3114720" y="3137040"/>
            <a:ext cx="447480" cy="457200"/>
            <a:chOff x="3114720" y="3137040"/>
            <a:chExt cx="447480" cy="457200"/>
          </a:xfrm>
        </p:grpSpPr>
        <p:pic>
          <p:nvPicPr>
            <p:cNvPr id="785" name="Picture 130" descr=""/>
            <p:cNvPicPr/>
            <p:nvPr/>
          </p:nvPicPr>
          <p:blipFill>
            <a:blip r:embed="rId13"/>
            <a:stretch/>
          </p:blipFill>
          <p:spPr>
            <a:xfrm>
              <a:off x="3114720" y="3137040"/>
              <a:ext cx="4474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Oval 131"/>
            <p:cNvSpPr/>
            <p:nvPr/>
          </p:nvSpPr>
          <p:spPr>
            <a:xfrm>
              <a:off x="3141360" y="31590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6BA5-2AF5-46C2-9974-529113FF11C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791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08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2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3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130"/>
          <p:cNvCxnSpPr>
            <a:endCxn id="84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44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5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56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62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Arrow Connector 130"/>
          <p:cNvCxnSpPr>
            <a:endCxn id="868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1" name="Straight Arrow Connector 131"/>
          <p:cNvCxnSpPr>
            <a:stCxn id="868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2" name="Straight Arrow Connector 132"/>
          <p:cNvCxnSpPr>
            <a:stCxn id="868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3" name="Straight Arrow Connector 133"/>
          <p:cNvCxnSpPr>
            <a:stCxn id="868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74" name="Straight Arrow Connector 134"/>
          <p:cNvCxnSpPr>
            <a:stCxn id="868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75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1" name="Straight Arrow Connector 141"/>
          <p:cNvCxnSpPr>
            <a:stCxn id="868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82" name="Straight Arrow Connector 142"/>
          <p:cNvCxnSpPr>
            <a:stCxn id="868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883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884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0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433520" y="157788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889" name="Rounded Rectangle 116"/>
          <p:cNvSpPr/>
          <p:nvPr/>
        </p:nvSpPr>
        <p:spPr>
          <a:xfrm>
            <a:off x="1281240" y="119700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ound Same Side Corner Rectangle 117"/>
          <p:cNvSpPr/>
          <p:nvPr/>
        </p:nvSpPr>
        <p:spPr>
          <a:xfrm>
            <a:off x="1281240" y="11970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8"/>
          <p:cNvSpPr/>
          <p:nvPr/>
        </p:nvSpPr>
        <p:spPr>
          <a:xfrm>
            <a:off x="1433520" y="1197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ounded Rectangle 119"/>
          <p:cNvSpPr/>
          <p:nvPr/>
        </p:nvSpPr>
        <p:spPr>
          <a:xfrm>
            <a:off x="1393920" y="2832120"/>
            <a:ext cx="2249280" cy="10666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20"/>
          <p:cNvSpPr/>
          <p:nvPr/>
        </p:nvSpPr>
        <p:spPr>
          <a:xfrm>
            <a:off x="1335240" y="30798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5" descr="Database Icon 48px png"/>
          <p:cNvPicPr/>
          <p:nvPr/>
        </p:nvPicPr>
        <p:blipFill>
          <a:blip r:embed="rId2"/>
          <a:stretch/>
        </p:blipFill>
        <p:spPr>
          <a:xfrm>
            <a:off x="2652840" y="30607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895" name="Rounded Rectangle 122"/>
          <p:cNvSpPr/>
          <p:nvPr/>
        </p:nvSpPr>
        <p:spPr>
          <a:xfrm>
            <a:off x="4633920" y="19177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23"/>
          <p:cNvSpPr/>
          <p:nvPr/>
        </p:nvSpPr>
        <p:spPr>
          <a:xfrm>
            <a:off x="1433520" y="2527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Identity prov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4"/>
          <p:cNvSpPr/>
          <p:nvPr/>
        </p:nvSpPr>
        <p:spPr>
          <a:xfrm>
            <a:off x="4481640" y="15778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ounded Rectangle 125"/>
          <p:cNvSpPr/>
          <p:nvPr/>
        </p:nvSpPr>
        <p:spPr>
          <a:xfrm>
            <a:off x="4633920" y="245124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ounded Rectangle 126"/>
          <p:cNvSpPr/>
          <p:nvPr/>
        </p:nvSpPr>
        <p:spPr>
          <a:xfrm>
            <a:off x="4633920" y="2984400"/>
            <a:ext cx="221292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ounded Rectangle 127"/>
          <p:cNvSpPr/>
          <p:nvPr/>
        </p:nvSpPr>
        <p:spPr>
          <a:xfrm>
            <a:off x="4633920" y="351792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ound Same Side Corner Rectangle 128"/>
          <p:cNvSpPr/>
          <p:nvPr/>
        </p:nvSpPr>
        <p:spPr>
          <a:xfrm rot="5400000">
            <a:off x="2956680" y="3137760"/>
            <a:ext cx="1068480" cy="457200"/>
          </a:xfrm>
          <a:custGeom>
            <a:avLst/>
            <a:gdLst>
              <a:gd name="textAreaLeft" fmla="*/ 22320 w 1068480"/>
              <a:gd name="textAreaRight" fmla="*/ 1046160 w 1068480"/>
              <a:gd name="textAreaTop" fmla="*/ 22320 h 457200"/>
              <a:gd name="textAreaBottom" fmla="*/ 457560 h 457200"/>
            </a:gdLst>
            <a:ahLst/>
            <a:rect l="textAreaLeft" t="textAreaTop" r="textAreaRight" b="textAreaBottom"/>
            <a:pathLst>
              <a:path w="1068388" h="457200">
                <a:moveTo>
                  <a:pt x="76202" y="0"/>
                </a:moveTo>
                <a:lnTo>
                  <a:pt x="992186" y="0"/>
                </a:lnTo>
                <a:lnTo>
                  <a:pt x="992186" y="0"/>
                </a:lnTo>
                <a:arcTo wR="76202" hR="76202" stAng="-5400000" swAng="5400000"/>
                <a:lnTo>
                  <a:pt x="1068388" y="457200"/>
                </a:lnTo>
                <a:lnTo>
                  <a:pt x="0" y="457200"/>
                </a:lnTo>
                <a:lnTo>
                  <a:pt x="0" y="76202"/>
                </a:lnTo>
                <a:lnTo>
                  <a:pt x="0" y="76202"/>
                </a:lnTo>
                <a:arcTo wR="76202" hR="76202" stAng="10800000" swAng="5400000"/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29"/>
          <p:cNvSpPr/>
          <p:nvPr/>
        </p:nvSpPr>
        <p:spPr>
          <a:xfrm>
            <a:off x="3338640" y="2832120"/>
            <a:ext cx="30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Straight Arrow Connector 130"/>
          <p:cNvCxnSpPr>
            <a:endCxn id="901" idx="2"/>
          </p:cNvCxnSpPr>
          <p:nvPr/>
        </p:nvCxnSpPr>
        <p:spPr>
          <a:xfrm>
            <a:off x="2347560" y="2187720"/>
            <a:ext cx="1143720" cy="645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4" name="Straight Arrow Connector 131"/>
          <p:cNvCxnSpPr>
            <a:stCxn id="901" idx="3"/>
          </p:cNvCxnSpPr>
          <p:nvPr/>
        </p:nvCxnSpPr>
        <p:spPr>
          <a:xfrm flipV="1">
            <a:off x="3719520" y="2095200"/>
            <a:ext cx="838800" cy="12708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5" name="Straight Arrow Connector 132"/>
          <p:cNvCxnSpPr>
            <a:stCxn id="901" idx="3"/>
          </p:cNvCxnSpPr>
          <p:nvPr/>
        </p:nvCxnSpPr>
        <p:spPr>
          <a:xfrm flipV="1">
            <a:off x="3719520" y="2628720"/>
            <a:ext cx="838800" cy="7372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6" name="Straight Arrow Connector 133"/>
          <p:cNvCxnSpPr>
            <a:stCxn id="901" idx="3"/>
          </p:cNvCxnSpPr>
          <p:nvPr/>
        </p:nvCxnSpPr>
        <p:spPr>
          <a:xfrm flipV="1">
            <a:off x="3719520" y="3161520"/>
            <a:ext cx="838800" cy="204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07" name="Straight Arrow Connector 134"/>
          <p:cNvCxnSpPr>
            <a:stCxn id="901" idx="3"/>
          </p:cNvCxnSpPr>
          <p:nvPr/>
        </p:nvCxnSpPr>
        <p:spPr>
          <a:xfrm>
            <a:off x="3719520" y="3365280"/>
            <a:ext cx="838800" cy="3308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908" name="Rounded Rectangle 135"/>
          <p:cNvSpPr/>
          <p:nvPr/>
        </p:nvSpPr>
        <p:spPr>
          <a:xfrm>
            <a:off x="1281240" y="4168800"/>
            <a:ext cx="5790960" cy="1676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ound Same Side Corner Rectangle 136"/>
          <p:cNvSpPr/>
          <p:nvPr/>
        </p:nvSpPr>
        <p:spPr>
          <a:xfrm>
            <a:off x="1281240" y="416880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37"/>
          <p:cNvSpPr/>
          <p:nvPr/>
        </p:nvSpPr>
        <p:spPr>
          <a:xfrm>
            <a:off x="1433520" y="416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ounded Rectangle 138"/>
          <p:cNvSpPr/>
          <p:nvPr/>
        </p:nvSpPr>
        <p:spPr>
          <a:xfrm>
            <a:off x="4633920" y="4854600"/>
            <a:ext cx="221292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39"/>
          <p:cNvSpPr/>
          <p:nvPr/>
        </p:nvSpPr>
        <p:spPr>
          <a:xfrm>
            <a:off x="4481640" y="45496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ounded Rectangle 140"/>
          <p:cNvSpPr/>
          <p:nvPr/>
        </p:nvSpPr>
        <p:spPr>
          <a:xfrm>
            <a:off x="4633920" y="534528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Straight Arrow Connector 141"/>
          <p:cNvCxnSpPr>
            <a:stCxn id="901" idx="3"/>
          </p:cNvCxnSpPr>
          <p:nvPr/>
        </p:nvCxnSpPr>
        <p:spPr>
          <a:xfrm>
            <a:off x="3719520" y="3365640"/>
            <a:ext cx="838800" cy="16596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915" name="Straight Arrow Connector 142"/>
          <p:cNvCxnSpPr>
            <a:stCxn id="901" idx="3"/>
          </p:cNvCxnSpPr>
          <p:nvPr/>
        </p:nvCxnSpPr>
        <p:spPr>
          <a:xfrm>
            <a:off x="3719520" y="3365280"/>
            <a:ext cx="838800" cy="21927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grpSp>
        <p:nvGrpSpPr>
          <p:cNvPr id="916" name="Group 143"/>
          <p:cNvGrpSpPr/>
          <p:nvPr/>
        </p:nvGrpSpPr>
        <p:grpSpPr>
          <a:xfrm>
            <a:off x="4557600" y="1916280"/>
            <a:ext cx="633600" cy="380880"/>
            <a:chOff x="4557600" y="1916280"/>
            <a:chExt cx="633600" cy="380880"/>
          </a:xfrm>
        </p:grpSpPr>
        <p:sp>
          <p:nvSpPr>
            <p:cNvPr id="917" name="TextBox 144"/>
            <p:cNvSpPr/>
            <p:nvPr/>
          </p:nvSpPr>
          <p:spPr>
            <a:xfrm>
              <a:off x="4557600" y="19256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ound Same Side Corner Rectangle 145"/>
            <p:cNvSpPr/>
            <p:nvPr/>
          </p:nvSpPr>
          <p:spPr>
            <a:xfrm rot="16200000">
              <a:off x="4688280" y="1861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Box 146"/>
            <p:cNvSpPr/>
            <p:nvPr/>
          </p:nvSpPr>
          <p:spPr>
            <a:xfrm>
              <a:off x="4586040" y="19350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147"/>
          <p:cNvGrpSpPr/>
          <p:nvPr/>
        </p:nvGrpSpPr>
        <p:grpSpPr>
          <a:xfrm>
            <a:off x="4552920" y="2449080"/>
            <a:ext cx="633600" cy="381240"/>
            <a:chOff x="4552920" y="2449080"/>
            <a:chExt cx="633600" cy="381240"/>
          </a:xfrm>
        </p:grpSpPr>
        <p:sp>
          <p:nvSpPr>
            <p:cNvPr id="921" name="TextBox 148"/>
            <p:cNvSpPr/>
            <p:nvPr/>
          </p:nvSpPr>
          <p:spPr>
            <a:xfrm>
              <a:off x="4552920" y="24588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ound Same Side Corner Rectangle 149"/>
            <p:cNvSpPr/>
            <p:nvPr/>
          </p:nvSpPr>
          <p:spPr>
            <a:xfrm rot="16200000">
              <a:off x="4683600" y="2394360"/>
              <a:ext cx="381240" cy="490680"/>
            </a:xfrm>
            <a:custGeom>
              <a:avLst/>
              <a:gdLst>
                <a:gd name="textAreaLeft" fmla="*/ 18360 w 381240"/>
                <a:gd name="textAreaRight" fmla="*/ 362880 w 38124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Box 150"/>
            <p:cNvSpPr/>
            <p:nvPr/>
          </p:nvSpPr>
          <p:spPr>
            <a:xfrm>
              <a:off x="4581360" y="246816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51"/>
          <p:cNvGrpSpPr/>
          <p:nvPr/>
        </p:nvGrpSpPr>
        <p:grpSpPr>
          <a:xfrm>
            <a:off x="4557600" y="2982960"/>
            <a:ext cx="633600" cy="380880"/>
            <a:chOff x="4557600" y="2982960"/>
            <a:chExt cx="633600" cy="380880"/>
          </a:xfrm>
        </p:grpSpPr>
        <p:sp>
          <p:nvSpPr>
            <p:cNvPr id="925" name="TextBox 152"/>
            <p:cNvSpPr/>
            <p:nvPr/>
          </p:nvSpPr>
          <p:spPr>
            <a:xfrm>
              <a:off x="4557600" y="29923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ound Same Side Corner Rectangle 153"/>
            <p:cNvSpPr/>
            <p:nvPr/>
          </p:nvSpPr>
          <p:spPr>
            <a:xfrm rot="16200000">
              <a:off x="4688280" y="292788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Box 154"/>
            <p:cNvSpPr/>
            <p:nvPr/>
          </p:nvSpPr>
          <p:spPr>
            <a:xfrm>
              <a:off x="4586040" y="300168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55"/>
          <p:cNvGrpSpPr/>
          <p:nvPr/>
        </p:nvGrpSpPr>
        <p:grpSpPr>
          <a:xfrm>
            <a:off x="4552920" y="3516480"/>
            <a:ext cx="633600" cy="380880"/>
            <a:chOff x="4552920" y="3516480"/>
            <a:chExt cx="633600" cy="380880"/>
          </a:xfrm>
        </p:grpSpPr>
        <p:sp>
          <p:nvSpPr>
            <p:cNvPr id="929" name="TextBox 156"/>
            <p:cNvSpPr/>
            <p:nvPr/>
          </p:nvSpPr>
          <p:spPr>
            <a:xfrm>
              <a:off x="4552920" y="352584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ound Same Side Corner Rectangle 157"/>
            <p:cNvSpPr/>
            <p:nvPr/>
          </p:nvSpPr>
          <p:spPr>
            <a:xfrm rot="16200000">
              <a:off x="4683600" y="34614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58"/>
            <p:cNvSpPr/>
            <p:nvPr/>
          </p:nvSpPr>
          <p:spPr>
            <a:xfrm>
              <a:off x="4581360" y="353520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59"/>
          <p:cNvGrpSpPr/>
          <p:nvPr/>
        </p:nvGrpSpPr>
        <p:grpSpPr>
          <a:xfrm>
            <a:off x="4552920" y="4854600"/>
            <a:ext cx="633600" cy="380880"/>
            <a:chOff x="4552920" y="4854600"/>
            <a:chExt cx="633600" cy="380880"/>
          </a:xfrm>
        </p:grpSpPr>
        <p:sp>
          <p:nvSpPr>
            <p:cNvPr id="933" name="TextBox 160"/>
            <p:cNvSpPr/>
            <p:nvPr/>
          </p:nvSpPr>
          <p:spPr>
            <a:xfrm>
              <a:off x="4552920" y="486396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ound Same Side Corner Rectangle 161"/>
            <p:cNvSpPr/>
            <p:nvPr/>
          </p:nvSpPr>
          <p:spPr>
            <a:xfrm rot="16200000">
              <a:off x="4683600" y="479952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Box 162"/>
            <p:cNvSpPr/>
            <p:nvPr/>
          </p:nvSpPr>
          <p:spPr>
            <a:xfrm>
              <a:off x="4581360" y="4873320"/>
              <a:ext cx="6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63"/>
          <p:cNvGrpSpPr/>
          <p:nvPr/>
        </p:nvGrpSpPr>
        <p:grpSpPr>
          <a:xfrm>
            <a:off x="4548240" y="5345280"/>
            <a:ext cx="633240" cy="380880"/>
            <a:chOff x="4548240" y="5345280"/>
            <a:chExt cx="633240" cy="380880"/>
          </a:xfrm>
        </p:grpSpPr>
        <p:sp>
          <p:nvSpPr>
            <p:cNvPr id="937" name="TextBox 164"/>
            <p:cNvSpPr/>
            <p:nvPr/>
          </p:nvSpPr>
          <p:spPr>
            <a:xfrm>
              <a:off x="4548240" y="53546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ound Same Side Corner Rectangle 165"/>
            <p:cNvSpPr/>
            <p:nvPr/>
          </p:nvSpPr>
          <p:spPr>
            <a:xfrm rot="16200000">
              <a:off x="4678920" y="5290200"/>
              <a:ext cx="380880" cy="49068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81000" h="490538">
                  <a:moveTo>
                    <a:pt x="63501" y="0"/>
                  </a:moveTo>
                  <a:lnTo>
                    <a:pt x="317499" y="0"/>
                  </a:lnTo>
                  <a:lnTo>
                    <a:pt x="317499" y="0"/>
                  </a:lnTo>
                  <a:arcTo wR="63501" hR="63501" stAng="-5400000" swAng="5400000"/>
                  <a:lnTo>
                    <a:pt x="381000" y="490538"/>
                  </a:lnTo>
                  <a:lnTo>
                    <a:pt x="0" y="490538"/>
                  </a:lnTo>
                  <a:lnTo>
                    <a:pt x="0" y="63501"/>
                  </a:lnTo>
                  <a:lnTo>
                    <a:pt x="0" y="63501"/>
                  </a:lnTo>
                  <a:arcTo wR="63501" hR="63501" stAng="10800000" swAng="5400000"/>
                  <a:close/>
                </a:path>
              </a:pathLst>
            </a:custGeom>
            <a:solidFill>
              <a:srgbClr val="fa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Box 166"/>
            <p:cNvSpPr/>
            <p:nvPr/>
          </p:nvSpPr>
          <p:spPr>
            <a:xfrm>
              <a:off x="4576680" y="5364000"/>
              <a:ext cx="60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Calibri"/>
                </a:rPr>
                <a:t>Aut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167"/>
          <p:cNvGrpSpPr/>
          <p:nvPr/>
        </p:nvGrpSpPr>
        <p:grpSpPr>
          <a:xfrm>
            <a:off x="2693880" y="2155680"/>
            <a:ext cx="447840" cy="457200"/>
            <a:chOff x="2693880" y="2155680"/>
            <a:chExt cx="447840" cy="457200"/>
          </a:xfrm>
        </p:grpSpPr>
        <p:pic>
          <p:nvPicPr>
            <p:cNvPr id="941" name="Picture 168" descr=""/>
            <p:cNvPicPr/>
            <p:nvPr/>
          </p:nvPicPr>
          <p:blipFill>
            <a:blip r:embed="rId3"/>
            <a:stretch/>
          </p:blipFill>
          <p:spPr>
            <a:xfrm>
              <a:off x="2693880" y="2155680"/>
              <a:ext cx="447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169"/>
            <p:cNvSpPr/>
            <p:nvPr/>
          </p:nvSpPr>
          <p:spPr>
            <a:xfrm>
              <a:off x="2719080" y="217620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tent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AI and Federated Ident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deration struct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MRES AAI deploy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A989-2501-4CFA-B954-02224814D4E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AI Architecture and Role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ounded Rectangle 5"/>
          <p:cNvSpPr/>
          <p:nvPr/>
        </p:nvSpPr>
        <p:spPr>
          <a:xfrm>
            <a:off x="2263680" y="4275000"/>
            <a:ext cx="174168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ounded Rectangle 6"/>
          <p:cNvSpPr/>
          <p:nvPr/>
        </p:nvSpPr>
        <p:spPr>
          <a:xfrm>
            <a:off x="5218200" y="4275000"/>
            <a:ext cx="1741320" cy="94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ounded Rectangle 11"/>
          <p:cNvSpPr/>
          <p:nvPr/>
        </p:nvSpPr>
        <p:spPr>
          <a:xfrm>
            <a:off x="3076560" y="3178080"/>
            <a:ext cx="3106800" cy="682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17"/>
          <p:cNvSpPr/>
          <p:nvPr/>
        </p:nvSpPr>
        <p:spPr>
          <a:xfrm>
            <a:off x="1654200" y="2975040"/>
            <a:ext cx="5834160" cy="271440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18"/>
          <p:cNvSpPr/>
          <p:nvPr/>
        </p:nvSpPr>
        <p:spPr>
          <a:xfrm>
            <a:off x="900000" y="2897280"/>
            <a:ext cx="24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CIRCLE OF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ounded Rectangular Callout 20"/>
          <p:cNvSpPr/>
          <p:nvPr/>
        </p:nvSpPr>
        <p:spPr>
          <a:xfrm>
            <a:off x="2438280" y="1074600"/>
            <a:ext cx="6705720" cy="1581120"/>
          </a:xfrm>
          <a:prstGeom prst="wedgeRoundRectCallout">
            <a:avLst>
              <a:gd name="adj1" fmla="val -22134"/>
              <a:gd name="adj2" fmla="val 64990"/>
              <a:gd name="adj3" fmla="val 16667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fines technologi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dmits IdPs and SPs to federation –provides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provide some of federation services central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iscover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tadata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SO, SLO, consent, Attribute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ounded Rectangular Callout 22"/>
          <p:cNvSpPr/>
          <p:nvPr/>
        </p:nvSpPr>
        <p:spPr>
          <a:xfrm>
            <a:off x="0" y="5697360"/>
            <a:ext cx="3700440" cy="1160640"/>
          </a:xfrm>
          <a:prstGeom prst="wedgeRoundRectCallout">
            <a:avLst>
              <a:gd name="adj1" fmla="val 15560"/>
              <a:gd name="adj2" fmla="val -8375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lease of us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erving user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ounded Rectangular Callout 23"/>
          <p:cNvSpPr/>
          <p:nvPr/>
        </p:nvSpPr>
        <p:spPr>
          <a:xfrm>
            <a:off x="5514840" y="5697360"/>
            <a:ext cx="3629160" cy="1160640"/>
          </a:xfrm>
          <a:prstGeom prst="wedgeRoundRectCallout">
            <a:avLst>
              <a:gd name="adj1" fmla="val -11240"/>
              <a:gd name="adj2" fmla="val -92500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rols Access to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sonalized us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technology and softwa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1066680" y="1142640"/>
            <a:ext cx="7794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-facto standard in Academic identity federations: SAM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ftwar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ibbole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Internet2 (U.S.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P: Java, needs Tomc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SP: C++, Apache modu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reated by UNINETT (Norway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oth IdP and SP, written in 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7010280" y="6337440"/>
            <a:ext cx="2133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BFD0-8944-4309-9F64-2309133D275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SAMLph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041480" y="1104840"/>
            <a:ext cx="76197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are key-point simpleSAMLphp functionalities 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t’s see what simpleSAMLphp can do from an example of user accessing web service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1878-04C1-4015-8B8A-3A3A91DDF1D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protect Access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1066320" y="1142640"/>
            <a:ext cx="762012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access to resource only to legitimate us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003-8195-4796-A368-1CB8DE2C6B5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" descr=""/>
          <p:cNvPicPr/>
          <p:nvPr/>
        </p:nvPicPr>
        <p:blipFill>
          <a:blip r:embed="rId2"/>
          <a:stretch/>
        </p:blipFill>
        <p:spPr>
          <a:xfrm>
            <a:off x="984240" y="2322360"/>
            <a:ext cx="76662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8C9-DF15-4E78-9636-61E7BB26328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Picture 3" descr=""/>
          <p:cNvPicPr/>
          <p:nvPr/>
        </p:nvPicPr>
        <p:blipFill>
          <a:blip r:embed="rId5"/>
          <a:stretch/>
        </p:blipFill>
        <p:spPr>
          <a:xfrm>
            <a:off x="1728720" y="2784600"/>
            <a:ext cx="63514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.. – IdP Discovery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762120" y="1143000"/>
            <a:ext cx="842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fore redirecting user to its IdP, SP needs to discover what is a user’s Id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simpleSAMLphp you ca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centralized discovery service by Federation Operato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 built-in discovery service on SP side; works by displaying IdP entries from meta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7A11-9C82-4269-846C-716999319A78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3" descr=""/>
          <p:cNvPicPr/>
          <p:nvPr/>
        </p:nvPicPr>
        <p:blipFill>
          <a:blip r:embed="rId7"/>
          <a:stretch/>
        </p:blipFill>
        <p:spPr>
          <a:xfrm>
            <a:off x="1641600" y="3422520"/>
            <a:ext cx="6216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1066320" y="1142640"/>
            <a:ext cx="762012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s redirected to IdP site, where she is asked to enter u/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us process of authentication is star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B0E6-8BCC-454E-A8AE-6D19E4BA01F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Picture 6" descr=""/>
          <p:cNvPicPr/>
          <p:nvPr/>
        </p:nvPicPr>
        <p:blipFill>
          <a:blip r:embed="rId3"/>
          <a:stretch/>
        </p:blipFill>
        <p:spPr>
          <a:xfrm>
            <a:off x="1117440" y="2103480"/>
            <a:ext cx="7780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uthentic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066320" y="1142640"/>
            <a:ext cx="78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en IdP gets u/p, IdP must authenticate user against some datab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thentication methods that come with simpleSAMLphp distribu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st of username/passwor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en ID, Facebook, Tweeter, MySpace, LinkedIn,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you don’t find your authentication source on the list, you can make custom authentication modu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A92F-544A-44C8-A5B7-410BD857F25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8353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dp point of view..  - Identity Managemen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egardless in which database user Identities are stored, it is important that data about user is correc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M : s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et of procedures and rules which defin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o has the right to own digital identit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en is digital identity assigned to a per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digital identity maintain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us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ow is the digital identity terminat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ust comply with national personal data protection law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AF94-1D47-4526-A8C4-1E5E8F84506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1825-739C-49AF-8E21-79FB492965A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Attribute Releas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900000" y="1142640"/>
            <a:ext cx="804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ter user is authenticated, IdP can release some attributes about user to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 some principles are important !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 rule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only attributes which SP really nee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ease attributes upon pre-agreed syntax (schema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00"/>
              </a:spcBef>
              <a:buSzPct val="1545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th simpleSAMLphp, IdP can 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lter out a subset of available attributes that are sent to a S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dify name or values of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d new attribu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te new attributes that are composed of ot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C37C-872D-44D5-8977-4E6C87A92E3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fore Attribute Release, IdP can ask user about consent for releasing user ‘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very important from the perspective of national and international laws about protection of users dat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U Data Protection Directive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SzPct val="1122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—data should not be disclosed without the data subject’s consent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1E7-448C-4415-9DB2-AB280F07E4F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p point of view..  - Cons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458B-F240-4264-96F3-8B2F865DB0FA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1992240" y="1611360"/>
            <a:ext cx="5465880" cy="497988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10663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nsent module is available in simpleSAMLph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27A7-99DA-432D-AB11-975D37F131D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2DEF-99BA-495D-A39B-3F5D86EDD46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 point of view .. -  Attribute process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 help SP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01"/>
              </a:spcBef>
              <a:buSzPct val="3601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authorization deci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udents/employees have different permiss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personalized services to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persistent user Id so he can save users preferenc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201"/>
              </a:spcBef>
              <a:buSzPct val="2831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 gets some additional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P needs users e-mail address to send e-mail notificatio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E3D3-A3EA-4E71-8557-6C1CCF00A82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ecide for Federation archite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 possibiliti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oosing one is very important because it heavily depends on state institutions are in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2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EC9B-C859-460D-AFB4-74F15BADE8B4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4418-07C8-4A99-B596-DC98026FE7F1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6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38"/>
          <p:cNvSpPr/>
          <p:nvPr/>
        </p:nvSpPr>
        <p:spPr>
          <a:xfrm>
            <a:off x="812880" y="928800"/>
            <a:ext cx="831672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ounded Rectangle 16"/>
          <p:cNvSpPr/>
          <p:nvPr/>
        </p:nvSpPr>
        <p:spPr>
          <a:xfrm>
            <a:off x="6087960" y="206064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ounded Rectangle 15"/>
          <p:cNvSpPr/>
          <p:nvPr/>
        </p:nvSpPr>
        <p:spPr>
          <a:xfrm>
            <a:off x="1030320" y="92880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066320" y="-65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ll mesh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826920" y="622296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2726-C3D1-473D-A88F-305AC97D954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ounded Rectangle 5"/>
          <p:cNvSpPr/>
          <p:nvPr/>
        </p:nvSpPr>
        <p:spPr>
          <a:xfrm>
            <a:off x="1103400" y="987480"/>
            <a:ext cx="242388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ounded Rectangle 6"/>
          <p:cNvSpPr/>
          <p:nvPr/>
        </p:nvSpPr>
        <p:spPr>
          <a:xfrm>
            <a:off x="6168960" y="2112840"/>
            <a:ext cx="239400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ounded Rectangle 7"/>
          <p:cNvSpPr/>
          <p:nvPr/>
        </p:nvSpPr>
        <p:spPr>
          <a:xfrm>
            <a:off x="5342040" y="0"/>
            <a:ext cx="3322440" cy="14652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ounded Rectangle 10"/>
          <p:cNvSpPr/>
          <p:nvPr/>
        </p:nvSpPr>
        <p:spPr>
          <a:xfrm>
            <a:off x="5486400" y="66816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ounded Rectangle 11"/>
          <p:cNvSpPr/>
          <p:nvPr/>
        </p:nvSpPr>
        <p:spPr>
          <a:xfrm>
            <a:off x="7083360" y="65232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ounded Rectangle 12"/>
          <p:cNvSpPr/>
          <p:nvPr/>
        </p:nvSpPr>
        <p:spPr>
          <a:xfrm>
            <a:off x="2293920" y="22496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ounded Rectangle 13"/>
          <p:cNvSpPr/>
          <p:nvPr/>
        </p:nvSpPr>
        <p:spPr>
          <a:xfrm>
            <a:off x="2300400" y="185724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ounded Rectangle 14"/>
          <p:cNvSpPr/>
          <p:nvPr/>
        </p:nvSpPr>
        <p:spPr>
          <a:xfrm>
            <a:off x="6211800" y="2212920"/>
            <a:ext cx="12780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ounded Rectangle 18"/>
          <p:cNvSpPr/>
          <p:nvPr/>
        </p:nvSpPr>
        <p:spPr>
          <a:xfrm>
            <a:off x="1147680" y="2786040"/>
            <a:ext cx="182736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19"/>
          <p:cNvSpPr/>
          <p:nvPr/>
        </p:nvSpPr>
        <p:spPr>
          <a:xfrm>
            <a:off x="1089000" y="28036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5" descr="Database Icon 48px png"/>
          <p:cNvPicPr/>
          <p:nvPr/>
        </p:nvPicPr>
        <p:blipFill>
          <a:blip r:embed="rId1"/>
          <a:stretch/>
        </p:blipFill>
        <p:spPr>
          <a:xfrm>
            <a:off x="2406600" y="27846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80" name="Rounded Rectangle 23"/>
          <p:cNvSpPr/>
          <p:nvPr/>
        </p:nvSpPr>
        <p:spPr>
          <a:xfrm>
            <a:off x="2308320" y="14590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ounded Rectangle 24"/>
          <p:cNvSpPr/>
          <p:nvPr/>
        </p:nvSpPr>
        <p:spPr>
          <a:xfrm>
            <a:off x="2286000" y="10447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ounded Rectangle 25"/>
          <p:cNvSpPr/>
          <p:nvPr/>
        </p:nvSpPr>
        <p:spPr>
          <a:xfrm>
            <a:off x="6219720" y="2786040"/>
            <a:ext cx="12765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ounded Rectangle 29"/>
          <p:cNvSpPr/>
          <p:nvPr/>
        </p:nvSpPr>
        <p:spPr>
          <a:xfrm>
            <a:off x="1052640" y="3897360"/>
            <a:ext cx="2568600" cy="2859120"/>
          </a:xfrm>
          <a:custGeom>
            <a:avLst/>
            <a:gdLst>
              <a:gd name="textAreaLeft" fmla="*/ 125280 w 2568600"/>
              <a:gd name="textAreaRight" fmla="*/ 2443320 w 2568600"/>
              <a:gd name="textAreaTop" fmla="*/ 125280 h 2859120"/>
              <a:gd name="textAreaBottom" fmla="*/ 2733840 h 285912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ounded Rectangle 30"/>
          <p:cNvSpPr/>
          <p:nvPr/>
        </p:nvSpPr>
        <p:spPr>
          <a:xfrm>
            <a:off x="1125360" y="3954600"/>
            <a:ext cx="2422800" cy="168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ounded Rectangle 31"/>
          <p:cNvSpPr/>
          <p:nvPr/>
        </p:nvSpPr>
        <p:spPr>
          <a:xfrm>
            <a:off x="2314440" y="5218200"/>
            <a:ext cx="11559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ounded Rectangle 32"/>
          <p:cNvSpPr/>
          <p:nvPr/>
        </p:nvSpPr>
        <p:spPr>
          <a:xfrm>
            <a:off x="2322360" y="48261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ounded Rectangle 33"/>
          <p:cNvSpPr/>
          <p:nvPr/>
        </p:nvSpPr>
        <p:spPr>
          <a:xfrm>
            <a:off x="1168560" y="57546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34"/>
          <p:cNvSpPr/>
          <p:nvPr/>
        </p:nvSpPr>
        <p:spPr>
          <a:xfrm>
            <a:off x="1109520" y="57722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5" descr="Database Icon 48px png"/>
          <p:cNvPicPr/>
          <p:nvPr/>
        </p:nvPicPr>
        <p:blipFill>
          <a:blip r:embed="rId2"/>
          <a:stretch/>
        </p:blipFill>
        <p:spPr>
          <a:xfrm>
            <a:off x="2427120" y="57531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090" name="Rounded Rectangle 36"/>
          <p:cNvSpPr/>
          <p:nvPr/>
        </p:nvSpPr>
        <p:spPr>
          <a:xfrm>
            <a:off x="2328840" y="4427640"/>
            <a:ext cx="1154160" cy="3585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ounded Rectangle 37"/>
          <p:cNvSpPr/>
          <p:nvPr/>
        </p:nvSpPr>
        <p:spPr>
          <a:xfrm>
            <a:off x="2308320" y="40132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ounded Rectangle 47"/>
          <p:cNvSpPr/>
          <p:nvPr/>
        </p:nvSpPr>
        <p:spPr>
          <a:xfrm>
            <a:off x="6095880" y="3852720"/>
            <a:ext cx="2548080" cy="15973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ounded Rectangle 48"/>
          <p:cNvSpPr/>
          <p:nvPr/>
        </p:nvSpPr>
        <p:spPr>
          <a:xfrm>
            <a:off x="6175440" y="390528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ounded Rectangle 49"/>
          <p:cNvSpPr/>
          <p:nvPr/>
        </p:nvSpPr>
        <p:spPr>
          <a:xfrm>
            <a:off x="6219720" y="4005360"/>
            <a:ext cx="127656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ounded Rectangle 50"/>
          <p:cNvSpPr/>
          <p:nvPr/>
        </p:nvSpPr>
        <p:spPr>
          <a:xfrm>
            <a:off x="6226200" y="4579920"/>
            <a:ext cx="127800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traight Connector 52"/>
          <p:cNvSpPr/>
          <p:nvPr/>
        </p:nvSpPr>
        <p:spPr>
          <a:xfrm>
            <a:off x="3527280" y="1828800"/>
            <a:ext cx="2641680" cy="8888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53"/>
          <p:cNvSpPr/>
          <p:nvPr/>
        </p:nvSpPr>
        <p:spPr>
          <a:xfrm flipV="1">
            <a:off x="3548160" y="4510080"/>
            <a:ext cx="2627280" cy="28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55"/>
          <p:cNvSpPr/>
          <p:nvPr/>
        </p:nvSpPr>
        <p:spPr>
          <a:xfrm flipV="1">
            <a:off x="3548160" y="2717280"/>
            <a:ext cx="2620800" cy="2079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traight Connector 58"/>
          <p:cNvSpPr/>
          <p:nvPr/>
        </p:nvSpPr>
        <p:spPr>
          <a:xfrm>
            <a:off x="3527280" y="1828800"/>
            <a:ext cx="2648160" cy="26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682B-C080-4287-98CB-E8C7A2B5340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1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20B5-0AB2-4625-B0C9-A52C87676A3F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ounded Rectangle 16"/>
          <p:cNvSpPr/>
          <p:nvPr/>
        </p:nvSpPr>
        <p:spPr>
          <a:xfrm>
            <a:off x="6567480" y="1770120"/>
            <a:ext cx="2548080" cy="15969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ounded Rectangle 15"/>
          <p:cNvSpPr/>
          <p:nvPr/>
        </p:nvSpPr>
        <p:spPr>
          <a:xfrm>
            <a:off x="58680" y="1292400"/>
            <a:ext cx="2292480" cy="20746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ub and spok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FEF1-EA50-4B9F-A76C-86A9EBA246D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ed Rectangle 5"/>
          <p:cNvSpPr/>
          <p:nvPr/>
        </p:nvSpPr>
        <p:spPr>
          <a:xfrm>
            <a:off x="130320" y="1407960"/>
            <a:ext cx="2163600" cy="84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ounded Rectangle 6"/>
          <p:cNvSpPr/>
          <p:nvPr/>
        </p:nvSpPr>
        <p:spPr>
          <a:xfrm>
            <a:off x="6647040" y="182232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ounded Rectangle 7"/>
          <p:cNvSpPr/>
          <p:nvPr/>
        </p:nvSpPr>
        <p:spPr>
          <a:xfrm>
            <a:off x="2873520" y="2147760"/>
            <a:ext cx="3324240" cy="28670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ed Rectangle 10"/>
          <p:cNvSpPr/>
          <p:nvPr/>
        </p:nvSpPr>
        <p:spPr>
          <a:xfrm>
            <a:off x="3019320" y="281628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ounded Rectangle 11"/>
          <p:cNvSpPr/>
          <p:nvPr/>
        </p:nvSpPr>
        <p:spPr>
          <a:xfrm>
            <a:off x="4614840" y="2801880"/>
            <a:ext cx="1481040" cy="725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ounded Rectangle 14"/>
          <p:cNvSpPr/>
          <p:nvPr/>
        </p:nvSpPr>
        <p:spPr>
          <a:xfrm>
            <a:off x="6691320" y="1922400"/>
            <a:ext cx="1276200" cy="4874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ounded Rectangle 18"/>
          <p:cNvSpPr/>
          <p:nvPr/>
        </p:nvSpPr>
        <p:spPr>
          <a:xfrm>
            <a:off x="174600" y="236520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19"/>
          <p:cNvSpPr/>
          <p:nvPr/>
        </p:nvSpPr>
        <p:spPr>
          <a:xfrm>
            <a:off x="115920" y="238284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5" descr="Database Icon 48px png"/>
          <p:cNvPicPr/>
          <p:nvPr/>
        </p:nvPicPr>
        <p:blipFill>
          <a:blip r:embed="rId1"/>
          <a:stretch/>
        </p:blipFill>
        <p:spPr>
          <a:xfrm>
            <a:off x="1433520" y="236376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33" name="Rounded Rectangle 24"/>
          <p:cNvSpPr/>
          <p:nvPr/>
        </p:nvSpPr>
        <p:spPr>
          <a:xfrm>
            <a:off x="1284120" y="1654200"/>
            <a:ext cx="9511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ounded Rectangle 25"/>
          <p:cNvSpPr/>
          <p:nvPr/>
        </p:nvSpPr>
        <p:spPr>
          <a:xfrm>
            <a:off x="6697800" y="249696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ounded Rectangle 47"/>
          <p:cNvSpPr/>
          <p:nvPr/>
        </p:nvSpPr>
        <p:spPr>
          <a:xfrm>
            <a:off x="6575400" y="356400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ounded Rectangle 48"/>
          <p:cNvSpPr/>
          <p:nvPr/>
        </p:nvSpPr>
        <p:spPr>
          <a:xfrm>
            <a:off x="6654960" y="361476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ounded Rectangle 49"/>
          <p:cNvSpPr/>
          <p:nvPr/>
        </p:nvSpPr>
        <p:spPr>
          <a:xfrm>
            <a:off x="6697800" y="3716280"/>
            <a:ext cx="127764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ounded Rectangle 50"/>
          <p:cNvSpPr/>
          <p:nvPr/>
        </p:nvSpPr>
        <p:spPr>
          <a:xfrm>
            <a:off x="6705720" y="4289400"/>
            <a:ext cx="1277640" cy="35892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ounded Rectangle 41"/>
          <p:cNvSpPr/>
          <p:nvPr/>
        </p:nvSpPr>
        <p:spPr>
          <a:xfrm>
            <a:off x="3990960" y="449892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ounded Rectangle 42"/>
          <p:cNvSpPr/>
          <p:nvPr/>
        </p:nvSpPr>
        <p:spPr>
          <a:xfrm>
            <a:off x="3998880" y="4106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ounded Rectangle 43"/>
          <p:cNvSpPr/>
          <p:nvPr/>
        </p:nvSpPr>
        <p:spPr>
          <a:xfrm>
            <a:off x="4005360" y="370836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ounded Rectangle 45"/>
          <p:cNvSpPr/>
          <p:nvPr/>
        </p:nvSpPr>
        <p:spPr>
          <a:xfrm>
            <a:off x="0" y="3665520"/>
            <a:ext cx="2293920" cy="207504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ounded Rectangle 46"/>
          <p:cNvSpPr/>
          <p:nvPr/>
        </p:nvSpPr>
        <p:spPr>
          <a:xfrm>
            <a:off x="73080" y="3781440"/>
            <a:ext cx="2162160" cy="841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ounded Rectangle 51"/>
          <p:cNvSpPr/>
          <p:nvPr/>
        </p:nvSpPr>
        <p:spPr>
          <a:xfrm>
            <a:off x="115920" y="473868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4"/>
          <p:cNvSpPr/>
          <p:nvPr/>
        </p:nvSpPr>
        <p:spPr>
          <a:xfrm>
            <a:off x="57240" y="475632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5" descr="Database Icon 48px png"/>
          <p:cNvPicPr/>
          <p:nvPr/>
        </p:nvPicPr>
        <p:blipFill>
          <a:blip r:embed="rId2"/>
          <a:stretch/>
        </p:blipFill>
        <p:spPr>
          <a:xfrm>
            <a:off x="1374840" y="473724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47" name="Rounded Rectangle 57"/>
          <p:cNvSpPr/>
          <p:nvPr/>
        </p:nvSpPr>
        <p:spPr>
          <a:xfrm>
            <a:off x="1227240" y="4027320"/>
            <a:ext cx="94932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traight Connector 59"/>
          <p:cNvSpPr/>
          <p:nvPr/>
        </p:nvSpPr>
        <p:spPr>
          <a:xfrm>
            <a:off x="2351160" y="2328840"/>
            <a:ext cx="522360" cy="1252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traight Connector 62"/>
          <p:cNvSpPr/>
          <p:nvPr/>
        </p:nvSpPr>
        <p:spPr>
          <a:xfrm flipV="1">
            <a:off x="2293920" y="3581280"/>
            <a:ext cx="579600" cy="1121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traight Connector 66"/>
          <p:cNvSpPr/>
          <p:nvPr/>
        </p:nvSpPr>
        <p:spPr>
          <a:xfrm flipH="1">
            <a:off x="6197400" y="2567880"/>
            <a:ext cx="369720" cy="101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traight Connector 69"/>
          <p:cNvSpPr/>
          <p:nvPr/>
        </p:nvSpPr>
        <p:spPr>
          <a:xfrm flipH="1" flipV="1">
            <a:off x="6197400" y="3581280"/>
            <a:ext cx="377640" cy="779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D12B-75D3-4A3F-AEF6-6B7681A93F56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68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ounded Rectangle 7"/>
          <p:cNvSpPr/>
          <p:nvPr/>
        </p:nvSpPr>
        <p:spPr>
          <a:xfrm>
            <a:off x="2771640" y="1727280"/>
            <a:ext cx="3310200" cy="3454200"/>
          </a:xfrm>
          <a:custGeom>
            <a:avLst/>
            <a:gdLst>
              <a:gd name="textAreaLeft" fmla="*/ 161280 w 3310200"/>
              <a:gd name="textAreaRight" fmla="*/ 3148920 w 3310200"/>
              <a:gd name="textAreaTop" fmla="*/ 161280 h 3454200"/>
              <a:gd name="textAreaBottom" fmla="*/ 3292920 h 3454200"/>
            </a:gdLst>
            <a:ahLst/>
            <a:rect l="textAreaLeft" t="textAreaTop" r="textAreaRight" b="textAreaBottom"/>
            <a:pathLst>
              <a:path w="21600" h="22540">
                <a:moveTo>
                  <a:pt x="3600" y="0"/>
                </a:moveTo>
                <a:arcTo wR="3600" hR="3600" stAng="16200000" swAng="-5400000"/>
                <a:lnTo>
                  <a:pt x="0" y="18940"/>
                </a:lnTo>
                <a:arcTo wR="3600" hR="3600" stAng="10800000" swAng="-5400000"/>
                <a:lnTo>
                  <a:pt x="18000" y="22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Federa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ounded Rectangle 16"/>
          <p:cNvSpPr/>
          <p:nvPr/>
        </p:nvSpPr>
        <p:spPr>
          <a:xfrm>
            <a:off x="6539040" y="2308320"/>
            <a:ext cx="25462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ounded Rectangle 15"/>
          <p:cNvSpPr/>
          <p:nvPr/>
        </p:nvSpPr>
        <p:spPr>
          <a:xfrm>
            <a:off x="58680" y="2786040"/>
            <a:ext cx="2075040" cy="13510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entralized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Footer Placeholder 3"/>
          <p:cNvSpPr/>
          <p:nvPr/>
        </p:nvSpPr>
        <p:spPr>
          <a:xfrm>
            <a:off x="42840" y="6078600"/>
            <a:ext cx="1371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AD18-8666-4678-9A04-330644B5C5F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ounded Rectangle 5"/>
          <p:cNvSpPr/>
          <p:nvPr/>
        </p:nvSpPr>
        <p:spPr>
          <a:xfrm>
            <a:off x="3236760" y="3338640"/>
            <a:ext cx="2424240" cy="1682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dentity      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ounded Rectangle 6"/>
          <p:cNvSpPr/>
          <p:nvPr/>
        </p:nvSpPr>
        <p:spPr>
          <a:xfrm>
            <a:off x="6618240" y="2359080"/>
            <a:ext cx="2395440" cy="121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ounded Rectangle 10"/>
          <p:cNvSpPr/>
          <p:nvPr/>
        </p:nvSpPr>
        <p:spPr>
          <a:xfrm>
            <a:off x="2917800" y="2395440"/>
            <a:ext cx="147960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ounded Rectangle 11"/>
          <p:cNvSpPr/>
          <p:nvPr/>
        </p:nvSpPr>
        <p:spPr>
          <a:xfrm>
            <a:off x="4513320" y="2379600"/>
            <a:ext cx="1481040" cy="727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ederation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ounded Rectangle 12"/>
          <p:cNvSpPr/>
          <p:nvPr/>
        </p:nvSpPr>
        <p:spPr>
          <a:xfrm>
            <a:off x="4427640" y="4600440"/>
            <a:ext cx="11556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SO,S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ounded Rectangle 13"/>
          <p:cNvSpPr/>
          <p:nvPr/>
        </p:nvSpPr>
        <p:spPr>
          <a:xfrm>
            <a:off x="4433760" y="420840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ounded Rectangle 14"/>
          <p:cNvSpPr/>
          <p:nvPr/>
        </p:nvSpPr>
        <p:spPr>
          <a:xfrm>
            <a:off x="6662880" y="2460600"/>
            <a:ext cx="1276200" cy="48564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ounded Rectangle 18"/>
          <p:cNvSpPr/>
          <p:nvPr/>
        </p:nvSpPr>
        <p:spPr>
          <a:xfrm>
            <a:off x="101520" y="3048120"/>
            <a:ext cx="1828800" cy="5950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19"/>
          <p:cNvSpPr/>
          <p:nvPr/>
        </p:nvSpPr>
        <p:spPr>
          <a:xfrm>
            <a:off x="42840" y="3065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5" descr="Database Icon 48px png"/>
          <p:cNvPicPr/>
          <p:nvPr/>
        </p:nvPicPr>
        <p:blipFill>
          <a:blip r:embed="rId1"/>
          <a:stretch/>
        </p:blipFill>
        <p:spPr>
          <a:xfrm>
            <a:off x="1360440" y="304632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189" name="Rounded Rectangle 23"/>
          <p:cNvSpPr/>
          <p:nvPr/>
        </p:nvSpPr>
        <p:spPr>
          <a:xfrm>
            <a:off x="4441680" y="380988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r. Fi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ounded Rectangle 24"/>
          <p:cNvSpPr/>
          <p:nvPr/>
        </p:nvSpPr>
        <p:spPr>
          <a:xfrm>
            <a:off x="4419720" y="3395520"/>
            <a:ext cx="115416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ounded Rectangle 25"/>
          <p:cNvSpPr/>
          <p:nvPr/>
        </p:nvSpPr>
        <p:spPr>
          <a:xfrm>
            <a:off x="6669000" y="303372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ounded Rectangle 21"/>
          <p:cNvSpPr/>
          <p:nvPr/>
        </p:nvSpPr>
        <p:spPr>
          <a:xfrm>
            <a:off x="58680" y="4361040"/>
            <a:ext cx="2075040" cy="13507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ounded Rectangle 22"/>
          <p:cNvSpPr/>
          <p:nvPr/>
        </p:nvSpPr>
        <p:spPr>
          <a:xfrm>
            <a:off x="101520" y="4622760"/>
            <a:ext cx="1828800" cy="5954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26"/>
          <p:cNvSpPr/>
          <p:nvPr/>
        </p:nvSpPr>
        <p:spPr>
          <a:xfrm>
            <a:off x="42840" y="464040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dent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5" descr="Database Icon 48px png"/>
          <p:cNvPicPr/>
          <p:nvPr/>
        </p:nvPicPr>
        <p:blipFill>
          <a:blip r:embed="rId2"/>
          <a:stretch/>
        </p:blipFill>
        <p:spPr>
          <a:xfrm>
            <a:off x="1360440" y="462132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1196" name="Rounded Rectangle 28"/>
          <p:cNvSpPr/>
          <p:nvPr/>
        </p:nvSpPr>
        <p:spPr>
          <a:xfrm>
            <a:off x="6553080" y="4187880"/>
            <a:ext cx="2548080" cy="1595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stitu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ounded Rectangle 29"/>
          <p:cNvSpPr/>
          <p:nvPr/>
        </p:nvSpPr>
        <p:spPr>
          <a:xfrm>
            <a:off x="6632640" y="4238640"/>
            <a:ext cx="2395440" cy="121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ervice          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ounded Rectangle 30"/>
          <p:cNvSpPr/>
          <p:nvPr/>
        </p:nvSpPr>
        <p:spPr>
          <a:xfrm>
            <a:off x="6676920" y="4340160"/>
            <a:ext cx="1276560" cy="48600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scove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ounded Rectangle 31"/>
          <p:cNvSpPr/>
          <p:nvPr/>
        </p:nvSpPr>
        <p:spPr>
          <a:xfrm>
            <a:off x="6683400" y="4913280"/>
            <a:ext cx="1278000" cy="360360"/>
          </a:xfrm>
          <a:prstGeom prst="roundRect">
            <a:avLst>
              <a:gd name="adj" fmla="val 3756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u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traight Connector 32"/>
          <p:cNvSpPr/>
          <p:nvPr/>
        </p:nvSpPr>
        <p:spPr>
          <a:xfrm>
            <a:off x="2133720" y="3462480"/>
            <a:ext cx="1103040" cy="717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traight Connector 35"/>
          <p:cNvSpPr/>
          <p:nvPr/>
        </p:nvSpPr>
        <p:spPr>
          <a:xfrm flipV="1">
            <a:off x="2133720" y="4179600"/>
            <a:ext cx="1103040" cy="857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traight Connector 41"/>
          <p:cNvSpPr/>
          <p:nvPr/>
        </p:nvSpPr>
        <p:spPr>
          <a:xfrm flipH="1">
            <a:off x="5660640" y="3106080"/>
            <a:ext cx="878040" cy="1073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traight Connector 44"/>
          <p:cNvSpPr/>
          <p:nvPr/>
        </p:nvSpPr>
        <p:spPr>
          <a:xfrm flipH="1" flipV="1">
            <a:off x="5661000" y="4179960"/>
            <a:ext cx="892080" cy="806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was our start poin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 administrators have less knowled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ions have different databases =&gt; no centralized fed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institution has its own S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decided for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eSAMLphp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ll-mesh with making it as much as possible lightweight: metadata management tool, attribute release recommendations, 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B581-3771-4076-8FA1-6AF6EA302D9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RES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066320" y="1143000"/>
            <a:ext cx="7620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 have  set-up test enviro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xt step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hands-on workshop with few chosen institutions which will continue in PILOT AA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experiences in PILOT, evaluate chosen solution, make some changes if nee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rt PRODUCTION, continue with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t /deploy new user services which would attract institution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68b29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4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3368-540E-4A42-B97B-80087A7C836C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05264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ank you for your atten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1066320" y="11426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estions</a:t>
            </a:r>
            <a:r>
              <a:rPr b="0" lang="sr-Latn-C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or write 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rebuchet MS"/>
              </a:rPr>
              <a:t>marina.vermezovic@rcub.bg.ac.rs</a:t>
            </a:r>
            <a:r>
              <a:rPr b="0" lang="sr-Latn-CS" sz="2800" spc="-1" strike="noStrike">
                <a:solidFill>
                  <a:srgbClr val="ffc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D389-3364-4F5A-A3A9-1CC2FA48858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A39-E8D8-4E38-A48A-D6DE2E77E22E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t’s make a start poi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095120" y="1128600"/>
            <a:ext cx="80485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you want to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er web services – e-books, e-magaz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buSzPct val="30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rol access to those web servic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ke services user personaliz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do you do th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o is your user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uthoriz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what she can do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A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- Authentication and authorization infrastructure makes access to protected services eas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1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03E-8909-4978-9EF6-55B6502DE755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14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4FEF-88EF-452B-9AC9-4E37C7111F39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33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Straight Arrow Connector 82"/>
          <p:cNvCxnSpPr>
            <a:endCxn id="639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40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50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2CAA-1D06-46FE-B5EA-C069ECC55B52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ithout</a:t>
            </a:r>
            <a:r>
              <a:rPr b="1" lang="sr-Latn-CS" sz="3200" spc="-1" strike="noStrike">
                <a:solidFill>
                  <a:srgbClr val="000000"/>
                </a:solidFill>
                <a:latin typeface="Trebuchet MS"/>
              </a:rPr>
              <a:t> AAI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0" y="6324480"/>
            <a:ext cx="13716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rebuchet MS"/>
              </a:rPr>
              <a:t>Akademska mre</a:t>
            </a:r>
            <a:r>
              <a:rPr b="1" lang="sr-Latn-CS" sz="700" spc="-1" strike="noStrike">
                <a:solidFill>
                  <a:srgbClr val="808080"/>
                </a:solidFill>
                <a:latin typeface="Trebuchet MS"/>
              </a:rPr>
              <a:t>ža Srbij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00" spc="-1" strike="noStrike">
                <a:solidFill>
                  <a:srgbClr val="f68b29"/>
                </a:solidFill>
                <a:latin typeface="Trebuchet MS"/>
              </a:rPr>
              <a:t>www.amres.ac.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ounded Rectangle 73"/>
          <p:cNvSpPr/>
          <p:nvPr/>
        </p:nvSpPr>
        <p:spPr>
          <a:xfrm>
            <a:off x="3768840" y="1913040"/>
            <a:ext cx="30240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ound Same Side Corner Rectangle 74"/>
          <p:cNvSpPr/>
          <p:nvPr/>
        </p:nvSpPr>
        <p:spPr>
          <a:xfrm rot="16200000">
            <a:off x="4582440" y="1858320"/>
            <a:ext cx="380880" cy="490320"/>
          </a:xfrm>
          <a:custGeom>
            <a:avLst/>
            <a:gdLst>
              <a:gd name="textAreaLeft" fmla="*/ 360 w 380880"/>
              <a:gd name="textAreaRight" fmla="*/ 380520 w 380880"/>
              <a:gd name="textAreaTop" fmla="*/ 360 h 490320"/>
              <a:gd name="textAreaBottom" fmla="*/ 490680 h 490320"/>
            </a:gdLst>
            <a:ahLst/>
            <a:rect l="textAreaLeft" t="textAreaTop" r="textAreaRight" b="textAreaBottom"/>
            <a:pathLst>
              <a:path w="381000" h="490538">
                <a:moveTo>
                  <a:pt x="1589" y="0"/>
                </a:moveTo>
                <a:lnTo>
                  <a:pt x="379411" y="0"/>
                </a:lnTo>
                <a:lnTo>
                  <a:pt x="379411" y="0"/>
                </a:lnTo>
                <a:arcTo wR="1589" hR="1589" stAng="-5400000" swAng="5400000"/>
                <a:lnTo>
                  <a:pt x="381000" y="490538"/>
                </a:lnTo>
                <a:lnTo>
                  <a:pt x="0" y="490538"/>
                </a:lnTo>
                <a:lnTo>
                  <a:pt x="0" y="1589"/>
                </a:lnTo>
                <a:lnTo>
                  <a:pt x="0" y="1589"/>
                </a:lnTo>
                <a:arcTo wR="1589" hR="1589" stAng="10800000" swAng="5400000"/>
                <a:close/>
              </a:path>
            </a:pathLst>
          </a:cu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 Same Side Corner Rectangle 75"/>
          <p:cNvSpPr/>
          <p:nvPr/>
        </p:nvSpPr>
        <p:spPr>
          <a:xfrm rot="16200000">
            <a:off x="3959280" y="1716120"/>
            <a:ext cx="380880" cy="7747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74720"/>
              <a:gd name="textAreaBottom" fmla="*/ 775080 h 774720"/>
            </a:gdLst>
            <a:ahLst/>
            <a:rect l="textAreaLeft" t="textAreaTop" r="textAreaRight" b="textAreaBottom"/>
            <a:pathLst>
              <a:path w="381000" h="774700">
                <a:moveTo>
                  <a:pt x="63501" y="0"/>
                </a:moveTo>
                <a:lnTo>
                  <a:pt x="317499" y="0"/>
                </a:lnTo>
                <a:lnTo>
                  <a:pt x="317499" y="0"/>
                </a:lnTo>
                <a:arcTo wR="63501" hR="63501" stAng="-5400000" swAng="5400000"/>
                <a:lnTo>
                  <a:pt x="381000" y="774700"/>
                </a:lnTo>
                <a:lnTo>
                  <a:pt x="0" y="7747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76" descr="http://thumbs.dreamstime.com/thumbimg_476/1265625196MNcZKi.jpg"/>
          <p:cNvPicPr/>
          <p:nvPr/>
        </p:nvPicPr>
        <p:blipFill>
          <a:blip r:embed="rId1"/>
          <a:stretch/>
        </p:blipFill>
        <p:spPr>
          <a:xfrm>
            <a:off x="1379520" y="1574640"/>
            <a:ext cx="1143000" cy="971640"/>
          </a:xfrm>
          <a:prstGeom prst="rect">
            <a:avLst/>
          </a:prstGeom>
          <a:ln w="0">
            <a:noFill/>
          </a:ln>
        </p:spPr>
      </p:pic>
      <p:sp>
        <p:nvSpPr>
          <p:cNvPr id="659" name="Rounded Rectangle 77"/>
          <p:cNvSpPr/>
          <p:nvPr/>
        </p:nvSpPr>
        <p:spPr>
          <a:xfrm>
            <a:off x="1227240" y="1193760"/>
            <a:ext cx="5790960" cy="281952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ound Same Side Corner Rectangle 78"/>
          <p:cNvSpPr/>
          <p:nvPr/>
        </p:nvSpPr>
        <p:spPr>
          <a:xfrm>
            <a:off x="1227240" y="11937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1379520" y="1193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Faculty</a:t>
            </a:r>
            <a:r>
              <a:rPr b="1" lang="sr-Latn-CS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80" descr="Database Icon 48px png"/>
          <p:cNvPicPr/>
          <p:nvPr/>
        </p:nvPicPr>
        <p:blipFill>
          <a:blip r:embed="rId2"/>
          <a:stretch/>
        </p:blipFill>
        <p:spPr>
          <a:xfrm>
            <a:off x="4229280" y="1909800"/>
            <a:ext cx="298440" cy="39852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3"/>
          <p:cNvSpPr/>
          <p:nvPr/>
        </p:nvSpPr>
        <p:spPr>
          <a:xfrm>
            <a:off x="4427640" y="15746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Straight Arrow Connector 82"/>
          <p:cNvCxnSpPr>
            <a:endCxn id="665" idx="1"/>
          </p:cNvCxnSpPr>
          <p:nvPr/>
        </p:nvCxnSpPr>
        <p:spPr>
          <a:xfrm flipV="1">
            <a:off x="2331720" y="2093040"/>
            <a:ext cx="1384920" cy="1645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66" name="Rounded Rectangle 83"/>
          <p:cNvSpPr/>
          <p:nvPr/>
        </p:nvSpPr>
        <p:spPr>
          <a:xfrm>
            <a:off x="1227240" y="4165560"/>
            <a:ext cx="5790960" cy="1746360"/>
          </a:xfrm>
          <a:prstGeom prst="roundRect">
            <a:avLst>
              <a:gd name="adj" fmla="val 8523"/>
            </a:avLst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ound Same Side Corner Rectangle 84"/>
          <p:cNvSpPr/>
          <p:nvPr/>
        </p:nvSpPr>
        <p:spPr>
          <a:xfrm>
            <a:off x="1227240" y="4165560"/>
            <a:ext cx="5790960" cy="380880"/>
          </a:xfrm>
          <a:custGeom>
            <a:avLst/>
            <a:gdLst>
              <a:gd name="textAreaLeft" fmla="*/ 18360 w 5790960"/>
              <a:gd name="textAreaRight" fmla="*/ 5772600 w 5790960"/>
              <a:gd name="textAreaTop" fmla="*/ 18360 h 380880"/>
              <a:gd name="textAreaBottom" fmla="*/ 381240 h 380880"/>
            </a:gdLst>
            <a:ahLst/>
            <a:rect l="textAreaLeft" t="textAreaTop" r="textAreaRight" b="textAreaBottom"/>
            <a:pathLst>
              <a:path w="5791200" h="381000">
                <a:moveTo>
                  <a:pt x="63501" y="0"/>
                </a:moveTo>
                <a:lnTo>
                  <a:pt x="5727699" y="0"/>
                </a:lnTo>
                <a:lnTo>
                  <a:pt x="5727699" y="0"/>
                </a:lnTo>
                <a:arcTo wR="63501" hR="63501" stAng="-5400000" swAng="5400000"/>
                <a:lnTo>
                  <a:pt x="5791200" y="381000"/>
                </a:lnTo>
                <a:lnTo>
                  <a:pt x="0" y="3810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56"/>
          <p:cNvSpPr/>
          <p:nvPr/>
        </p:nvSpPr>
        <p:spPr>
          <a:xfrm>
            <a:off x="1379520" y="4165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Calibri"/>
              </a:rPr>
              <a:t>Libra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62"/>
          <p:cNvSpPr/>
          <p:nvPr/>
        </p:nvSpPr>
        <p:spPr>
          <a:xfrm>
            <a:off x="4427640" y="454644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Servi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5"/>
          <p:cNvSpPr/>
          <p:nvPr/>
        </p:nvSpPr>
        <p:spPr>
          <a:xfrm>
            <a:off x="371628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08"/>
          <p:cNvSpPr/>
          <p:nvPr/>
        </p:nvSpPr>
        <p:spPr>
          <a:xfrm>
            <a:off x="4476600" y="19335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Au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ounded Rectangle 89"/>
          <p:cNvSpPr/>
          <p:nvPr/>
        </p:nvSpPr>
        <p:spPr>
          <a:xfrm>
            <a:off x="3762360" y="244620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videoc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ounded Rectangle 95"/>
          <p:cNvSpPr/>
          <p:nvPr/>
        </p:nvSpPr>
        <p:spPr>
          <a:xfrm>
            <a:off x="3762360" y="295596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101"/>
          <p:cNvSpPr/>
          <p:nvPr/>
        </p:nvSpPr>
        <p:spPr>
          <a:xfrm>
            <a:off x="3757680" y="346068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tudent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ounded Rectangle 107"/>
          <p:cNvSpPr/>
          <p:nvPr/>
        </p:nvSpPr>
        <p:spPr>
          <a:xfrm>
            <a:off x="3757680" y="4902120"/>
            <a:ext cx="3025800" cy="38124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113"/>
          <p:cNvSpPr/>
          <p:nvPr/>
        </p:nvSpPr>
        <p:spPr>
          <a:xfrm>
            <a:off x="3753000" y="5427720"/>
            <a:ext cx="3025800" cy="380880"/>
          </a:xfrm>
          <a:prstGeom prst="roundRect">
            <a:avLst>
              <a:gd name="adj" fmla="val 16667"/>
            </a:avLst>
          </a:prstGeom>
          <a:solidFill>
            <a:srgbClr val="f68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sr-Latn-CS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22"/>
          <p:cNvGrpSpPr/>
          <p:nvPr/>
        </p:nvGrpSpPr>
        <p:grpSpPr>
          <a:xfrm>
            <a:off x="2703600" y="1969920"/>
            <a:ext cx="420480" cy="420840"/>
            <a:chOff x="2703600" y="1969920"/>
            <a:chExt cx="420480" cy="420840"/>
          </a:xfrm>
        </p:grpSpPr>
        <p:pic>
          <p:nvPicPr>
            <p:cNvPr id="677" name="Picture 140" descr=""/>
            <p:cNvPicPr/>
            <p:nvPr/>
          </p:nvPicPr>
          <p:blipFill>
            <a:blip r:embed="rId3"/>
            <a:stretch/>
          </p:blipFill>
          <p:spPr>
            <a:xfrm>
              <a:off x="2703600" y="1969920"/>
              <a:ext cx="4204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141"/>
            <p:cNvSpPr/>
            <p:nvPr/>
          </p:nvSpPr>
          <p:spPr>
            <a:xfrm>
              <a:off x="2714400" y="1980720"/>
              <a:ext cx="393840" cy="3938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Slide Number Placeholder 8"/>
          <p:cNvSpPr/>
          <p:nvPr/>
        </p:nvSpPr>
        <p:spPr>
          <a:xfrm>
            <a:off x="7010280" y="6324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A08-2E5F-4F6B-AE94-B89BEFF8A9CD}" type="slidenum">
              <a:rPr b="0" lang="sr-Latn-CS" sz="14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3:11:59Z</dcterms:created>
  <dc:creator>Marina Vermezovic</dc:creator>
  <dc:description/>
  <dc:language>en-US</dc:language>
  <cp:lastModifiedBy>Morganti</cp:lastModifiedBy>
  <dcterms:modified xsi:type="dcterms:W3CDTF">2014-08-25T14:36:12Z</dcterms:modified>
  <cp:revision>893</cp:revision>
  <dc:subject/>
  <dc:title>rsEdu schema V2.0</dc:title>
</cp:coreProperties>
</file>